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940-A8C5-48DF-A62E-A7B6EFE1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4FC-D1FA-476E-BBC7-DC60CD20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0BD-6A0B-47F5-9B3C-CF2B56E3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E6B-AF50-4076-88AC-61301026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D86-A364-4834-B339-553A008B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3A9-2BE2-4294-B659-3C3DB38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09C-CF11-4C3A-AE5B-091F2240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D2E-818D-4D16-B6CB-A062D26B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B33-E72A-463D-A81B-ED01F079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5D8-952C-437F-A370-9B29A337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293-15C7-49D4-B335-10A04620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B29-ECFF-4719-912E-5187717E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504F-53DF-4964-81C4-25A33743099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5D9-F4B9-4234-9D2C-FC7B16CB47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28600" y="1600200"/>
            <a:ext cx="6172200" cy="3429000"/>
            <a:chOff x="228600" y="1600200"/>
            <a:chExt cx="6172200" cy="3429000"/>
          </a:xfrm>
        </p:grpSpPr>
        <p:sp>
          <p:nvSpPr>
            <p:cNvPr id="129" name=""/>
            <p:cNvSpPr/>
            <p:nvPr/>
          </p:nvSpPr>
          <p:spPr>
            <a:xfrm>
              <a:off x="4114800" y="3962520"/>
              <a:ext cx="2286000" cy="838080"/>
            </a:xfrm>
            <a:prstGeom prst="wedgeRoundRectCallout">
              <a:avLst>
                <a:gd name="adj1" fmla="val -81180"/>
                <a:gd name="adj2" fmla="val 4356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rgets were reset afte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ealth check …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s  have difficulties to take this into account 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1600200"/>
              <a:ext cx="2286000" cy="838080"/>
            </a:xfrm>
            <a:prstGeom prst="wedgeRoundRectCallout">
              <a:avLst>
                <a:gd name="adj1" fmla="val 1805"/>
                <a:gd name="adj2" fmla="val 12556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ef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ritten supplementary guidanc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CMEF as was provided for GVA would be helpfu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4191120"/>
              <a:ext cx="1981080" cy="838080"/>
            </a:xfrm>
            <a:prstGeom prst="wedgeRoundRectCallout">
              <a:avLst>
                <a:gd name="adj1" fmla="val -17949"/>
                <a:gd name="adj2" fmla="val -13560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gathering should b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zed as highly important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y MA, so “ongoing and priority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ative assessment methodolog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1600200"/>
            <a:ext cx="3886200" cy="1981080"/>
            <a:chOff x="1752480" y="1600200"/>
            <a:chExt cx="3886200" cy="1981080"/>
          </a:xfrm>
        </p:grpSpPr>
        <p:sp>
          <p:nvSpPr>
            <p:cNvPr id="134" name=""/>
            <p:cNvSpPr/>
            <p:nvPr/>
          </p:nvSpPr>
          <p:spPr>
            <a:xfrm>
              <a:off x="1752480" y="2743200"/>
              <a:ext cx="2286000" cy="838080"/>
            </a:xfrm>
            <a:prstGeom prst="wedgeRoundRectCallout">
              <a:avLst>
                <a:gd name="adj1" fmla="val -54583"/>
                <a:gd name="adj2" fmla="val 10189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iculties to collect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for farming and diversification measures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accountancy systems do not collect enough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1600200"/>
              <a:ext cx="2286000" cy="838080"/>
            </a:xfrm>
            <a:prstGeom prst="wedgeRoundRectCallout">
              <a:avLst>
                <a:gd name="adj1" fmla="val -16875"/>
                <a:gd name="adj2" fmla="val 10643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collect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liable economic information of farm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t receiving support from RDP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66880" y="2971800"/>
            <a:ext cx="3657600" cy="2895480"/>
            <a:chOff x="2666880" y="2971800"/>
            <a:chExt cx="3657600" cy="2895480"/>
          </a:xfrm>
        </p:grpSpPr>
        <p:sp>
          <p:nvSpPr>
            <p:cNvPr id="137" name=""/>
            <p:cNvSpPr/>
            <p:nvPr/>
          </p:nvSpPr>
          <p:spPr>
            <a:xfrm>
              <a:off x="2666880" y="5029200"/>
              <a:ext cx="2286000" cy="838080"/>
            </a:xfrm>
            <a:prstGeom prst="wedgeRoundRectCallout">
              <a:avLst>
                <a:gd name="adj1" fmla="val 42569"/>
                <a:gd name="adj2" fmla="val 8598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deal with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2-3 years) between the availability of data of Eurostat which is used for the baseline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971800"/>
              <a:ext cx="1676160" cy="838080"/>
            </a:xfrm>
            <a:prstGeom prst="wedgeRoundRectCallout">
              <a:avLst>
                <a:gd name="adj1" fmla="val -185796"/>
                <a:gd name="adj2" fmla="val 8200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more information on the different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sources at EU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3EE-2222-41F5-B7F7-63D042E9146D}" type="slidenum">
              <a:t>10</a:t>
            </a:fld>
          </a:p>
        </p:txBody>
      </p:sp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3429000"/>
            <a:ext cx="2286000" cy="609480"/>
          </a:xfrm>
          <a:prstGeom prst="wedgeRoundRectCallout">
            <a:avLst>
              <a:gd name="adj1" fmla="val -57986"/>
              <a:gd name="adj2" fmla="val 736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ata should be collected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00200"/>
            <a:ext cx="4952880" cy="4648320"/>
            <a:chOff x="304920" y="1600200"/>
            <a:chExt cx="4952880" cy="4648320"/>
          </a:xfrm>
        </p:grpSpPr>
        <p:sp>
          <p:nvSpPr>
            <p:cNvPr id="144" name=""/>
            <p:cNvSpPr/>
            <p:nvPr/>
          </p:nvSpPr>
          <p:spPr>
            <a:xfrm>
              <a:off x="2971800" y="1676520"/>
              <a:ext cx="2286000" cy="838080"/>
            </a:xfrm>
            <a:prstGeom prst="wedgeRoundRectCallout">
              <a:avLst>
                <a:gd name="adj1" fmla="val -32361"/>
                <a:gd name="adj2" fmla="val 2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very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fficult to evaluate qualitative asp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ke governance, capacity and the use of endogenous potentia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1600200"/>
              <a:ext cx="1981080" cy="1219320"/>
            </a:xfrm>
            <a:prstGeom prst="wedgeRoundRectCallout">
              <a:avLst>
                <a:gd name="adj1" fmla="val 115462"/>
                <a:gd name="adj2" fmla="val 11224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eatest challenges ar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the launch of the measures and the moment when impacts are visibl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5257800"/>
              <a:ext cx="2286000" cy="990720"/>
            </a:xfrm>
            <a:prstGeom prst="wedgeRoundRectCallout">
              <a:avLst>
                <a:gd name="adj1" fmla="val 55763"/>
                <a:gd name="adj2" fmla="val -1000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implementation period is rather short and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mount of money allocated is rather smal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The impact will be evident over a longer period of tim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3276720"/>
            <a:ext cx="2286000" cy="1143000"/>
          </a:xfrm>
          <a:prstGeom prst="wedgeRoundRectCallout">
            <a:avLst>
              <a:gd name="adj1" fmla="val 99097"/>
              <a:gd name="adj2" fmla="val 6194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ment of beneficiar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be difficult since they are 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2743200"/>
            <a:ext cx="2819160" cy="3429000"/>
            <a:chOff x="3505320" y="2743200"/>
            <a:chExt cx="2819160" cy="3429000"/>
          </a:xfrm>
        </p:grpSpPr>
        <p:sp>
          <p:nvSpPr>
            <p:cNvPr id="149" name=""/>
            <p:cNvSpPr/>
            <p:nvPr/>
          </p:nvSpPr>
          <p:spPr>
            <a:xfrm>
              <a:off x="3505320" y="5562720"/>
              <a:ext cx="2286000" cy="609480"/>
            </a:xfrm>
            <a:prstGeom prst="wedgeRoundRectCallout">
              <a:avLst>
                <a:gd name="adj1" fmla="val 65625"/>
                <a:gd name="adj2" fmla="val 5234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e i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vious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evaluation of Leader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743200"/>
              <a:ext cx="2286000" cy="609480"/>
            </a:xfrm>
            <a:prstGeom prst="wedgeRoundRectCallout">
              <a:avLst>
                <a:gd name="adj1" fmla="val -39722"/>
                <a:gd name="adj2" fmla="val -7317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evaluato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es not have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evaluating Leader &amp; Quality of Lif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4876920"/>
              <a:ext cx="2286000" cy="609480"/>
            </a:xfrm>
            <a:prstGeom prst="wedgeRoundRectCallout">
              <a:avLst>
                <a:gd name="adj1" fmla="val -22013"/>
                <a:gd name="adj2" fmla="val -1125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Leader approach is still 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nder construction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C78-0D43-4659-948E-C820D504942E}" type="slidenum">
              <a:t>11</a:t>
            </a:fld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answer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05320" y="1523880"/>
            <a:ext cx="2895480" cy="4724640"/>
            <a:chOff x="3505320" y="1523880"/>
            <a:chExt cx="2895480" cy="4724640"/>
          </a:xfrm>
        </p:grpSpPr>
        <p:sp>
          <p:nvSpPr>
            <p:cNvPr id="157" name=""/>
            <p:cNvSpPr/>
            <p:nvPr/>
          </p:nvSpPr>
          <p:spPr>
            <a:xfrm>
              <a:off x="4114800" y="1523880"/>
              <a:ext cx="2286000" cy="914400"/>
            </a:xfrm>
            <a:prstGeom prst="wedgeRoundRectCallout">
              <a:avLst>
                <a:gd name="adj1" fmla="val -60694"/>
                <a:gd name="adj2" fmla="val 486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Q:s ar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de in scope and very ambitiou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s up for a variety of approach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5320" y="5562720"/>
              <a:ext cx="2286000" cy="685800"/>
            </a:xfrm>
            <a:prstGeom prst="wedgeRoundRectCallout">
              <a:avLst>
                <a:gd name="adj1" fmla="val -55763"/>
                <a:gd name="adj2" fmla="val -17245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w to compare EU wid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when local methods and definitions are applied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280" y="3352680"/>
            <a:ext cx="6172200" cy="1752840"/>
            <a:chOff x="152280" y="3352680"/>
            <a:chExt cx="6172200" cy="1752840"/>
          </a:xfrm>
        </p:grpSpPr>
        <p:sp>
          <p:nvSpPr>
            <p:cNvPr id="160" name=""/>
            <p:cNvSpPr/>
            <p:nvPr/>
          </p:nvSpPr>
          <p:spPr>
            <a:xfrm>
              <a:off x="4038480" y="3352680"/>
              <a:ext cx="2286000" cy="1143000"/>
            </a:xfrm>
            <a:prstGeom prst="wedgeRoundRectCallout">
              <a:avLst>
                <a:gd name="adj1" fmla="val -46875"/>
                <a:gd name="adj2" fmla="val -876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verlapping of EQ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common and horizontal) results in confusion, risk to receive similar answers to many different ques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3581280"/>
              <a:ext cx="1524240" cy="838440"/>
            </a:xfrm>
            <a:prstGeom prst="wedgeRoundRectCallout">
              <a:avLst>
                <a:gd name="adj1" fmla="val -42601"/>
                <a:gd name="adj2" fmla="val 1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 of precise defini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erms and concepts used in the form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495680"/>
              <a:ext cx="1828800" cy="609840"/>
            </a:xfrm>
            <a:prstGeom prst="wedgeRoundRectCallout">
              <a:avLst>
                <a:gd name="adj1" fmla="val 41407"/>
                <a:gd name="adj2" fmla="val -1169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rizontal questions are more makro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han programme leve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2209680"/>
            <a:ext cx="3047760" cy="4114800"/>
            <a:chOff x="990720" y="2209680"/>
            <a:chExt cx="3047760" cy="4114800"/>
          </a:xfrm>
        </p:grpSpPr>
        <p:sp>
          <p:nvSpPr>
            <p:cNvPr id="164" name=""/>
            <p:cNvSpPr/>
            <p:nvPr/>
          </p:nvSpPr>
          <p:spPr>
            <a:xfrm>
              <a:off x="2286000" y="2209680"/>
              <a:ext cx="1752480" cy="762120"/>
            </a:xfrm>
            <a:prstGeom prst="wedgeRoundRectCallout">
              <a:avLst>
                <a:gd name="adj1" fmla="val 27717"/>
                <a:gd name="adj2" fmla="val 1331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 connec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Common indicators and CEQ: develop a matrix!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5638680"/>
              <a:ext cx="1828800" cy="685800"/>
            </a:xfrm>
            <a:prstGeom prst="wedgeRoundRectCallout">
              <a:avLst>
                <a:gd name="adj1" fmla="val 60851"/>
                <a:gd name="adj2" fmla="val -10023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m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questions are “summaries”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other questio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3E9-EE8C-4181-BC3E-BB5E30B41305}" type="slidenum">
              <a:t>12</a:t>
            </a:fld>
          </a:p>
        </p:txBody>
      </p:sp>
    </p:spTree>
  </p:cSld>
  <p:transition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DCD-2A52-4730-9C35-458C64FF9EE6}" type="slidenum">
              <a:t>13</a:t>
            </a:fld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383-6727-4E4C-A79E-428F7ADAE417}" type="slidenum">
              <a:t>14</a:t>
            </a:fld>
          </a:p>
        </p:txBody>
      </p:sp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27B-7285-49D7-B41B-4BF5AA5C2ED5}" type="slidenum">
              <a:t>15</a:t>
            </a:fld>
          </a:p>
        </p:txBody>
      </p:sp>
    </p:spTree>
  </p:cSld>
  <p:transition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50B-E3A8-4C3E-AED3-250515AFBD3D}" type="slidenum">
              <a:t>16</a:t>
            </a:fld>
          </a:p>
        </p:txBody>
      </p:sp>
    </p:spTree>
  </p:cSld>
  <p:transition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801-7EF9-4C4A-82DC-CB64B3DCABD2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074-C677-4F4B-9A9A-8BE874354C4D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D23-9152-4179-B957-B6DB6316793D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E4C-28B7-4D16-9895-EFC8D0B75028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1BF-CE63-4F5E-894B-A4E8D384DC01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4D4-DCB2-41C8-8C9D-46DFEA4CB542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  <a:lum contrast="-6000"/>
          </a:blip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038480" y="1523880"/>
            <a:ext cx="2362320" cy="4038840"/>
            <a:chOff x="4038480" y="1523880"/>
            <a:chExt cx="2362320" cy="4038840"/>
          </a:xfrm>
        </p:grpSpPr>
        <p:sp>
          <p:nvSpPr>
            <p:cNvPr id="98" name=""/>
            <p:cNvSpPr/>
            <p:nvPr/>
          </p:nvSpPr>
          <p:spPr>
            <a:xfrm>
              <a:off x="4114800" y="4572000"/>
              <a:ext cx="2286000" cy="990720"/>
            </a:xfrm>
            <a:prstGeom prst="wedgeRoundRectCallout">
              <a:avLst>
                <a:gd name="adj1" fmla="val -29097"/>
                <a:gd name="adj2" fmla="val 96634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is at a very early stage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of implementation (…)  with the exception of the measures continued from the past period (axis 2 mesures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1523880"/>
              <a:ext cx="2286000" cy="1447920"/>
            </a:xfrm>
            <a:prstGeom prst="wedgeRoundRectCallout">
              <a:avLst>
                <a:gd name="adj1" fmla="val -86666"/>
                <a:gd name="adj2" fmla="val 61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clear focus on effects but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has not yet provided a great number of effect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. Rather, this evaluation should focus on how projects and processes are established and how they can be integrated in their contexts and in the programme structur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" y="1600200"/>
            <a:ext cx="2286000" cy="4572000"/>
            <a:chOff x="685800" y="1600200"/>
            <a:chExt cx="2286000" cy="4572000"/>
          </a:xfrm>
        </p:grpSpPr>
        <p:sp>
          <p:nvSpPr>
            <p:cNvPr id="101" name=""/>
            <p:cNvSpPr/>
            <p:nvPr/>
          </p:nvSpPr>
          <p:spPr>
            <a:xfrm>
              <a:off x="685800" y="5105520"/>
              <a:ext cx="2286000" cy="1066680"/>
            </a:xfrm>
            <a:prstGeom prst="wedgeRoundRectCallout">
              <a:avLst>
                <a:gd name="adj1" fmla="val 12847"/>
                <a:gd name="adj2" fmla="val -166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ubt about whether CMEF offers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ight indicator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vention logics should indicate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l regional causal relationships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not only RDP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1600200"/>
              <a:ext cx="2286000" cy="1295280"/>
            </a:xfrm>
            <a:prstGeom prst="wedgeRoundRectCallout">
              <a:avLst>
                <a:gd name="adj1" fmla="val -47083"/>
                <a:gd name="adj2" fmla="val 7916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need to demonstrate the wider relevance and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mportance of impact assessmen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and evaluation to beneficiaries in order to encourage their participation and strengthen their inpu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330-48DB-4583-8E17-311F6ED0AF2C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04920" y="2209680"/>
            <a:ext cx="6019560" cy="3200400"/>
            <a:chOff x="304920" y="2209680"/>
            <a:chExt cx="6019560" cy="3200400"/>
          </a:xfrm>
        </p:grpSpPr>
        <p:sp>
          <p:nvSpPr>
            <p:cNvPr id="107" name=""/>
            <p:cNvSpPr/>
            <p:nvPr/>
          </p:nvSpPr>
          <p:spPr>
            <a:xfrm>
              <a:off x="4038480" y="3581280"/>
              <a:ext cx="2286000" cy="1143000"/>
            </a:xfrm>
            <a:prstGeom prst="wedgeRoundRectCallout">
              <a:avLst>
                <a:gd name="adj1" fmla="val -82361"/>
                <a:gd name="adj2" fmla="val 2208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t which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hould impacts be calculated? sectoral? or for the whole national economy? at the level of a holding or for the whole sector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2209680"/>
              <a:ext cx="2286000" cy="838440"/>
            </a:xfrm>
            <a:prstGeom prst="wedgeRoundRectCallout">
              <a:avLst>
                <a:gd name="adj1" fmla="val 32499"/>
                <a:gd name="adj2" fmla="val 134467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gregate impacts at programme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timated by measurements at case study level or regional lev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4800600"/>
              <a:ext cx="2286000" cy="609480"/>
            </a:xfrm>
            <a:prstGeom prst="wedgeRoundRectCallout">
              <a:avLst>
                <a:gd name="adj1" fmla="val 31458"/>
                <a:gd name="adj2" fmla="val -18229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pas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rom case study to regional assessment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1523880"/>
            <a:ext cx="4876560" cy="4800600"/>
            <a:chOff x="1447920" y="1523880"/>
            <a:chExt cx="4876560" cy="4800600"/>
          </a:xfrm>
        </p:grpSpPr>
        <p:sp>
          <p:nvSpPr>
            <p:cNvPr id="111" name=""/>
            <p:cNvSpPr/>
            <p:nvPr/>
          </p:nvSpPr>
          <p:spPr>
            <a:xfrm>
              <a:off x="4038480" y="5562720"/>
              <a:ext cx="2286000" cy="685800"/>
            </a:xfrm>
            <a:prstGeom prst="wedgeRoundRectCallout">
              <a:avLst>
                <a:gd name="adj1" fmla="val -79444"/>
                <a:gd name="adj2" fmla="val -16898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eparate RDP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rom effects of other programme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1523880"/>
              <a:ext cx="1981080" cy="685800"/>
            </a:xfrm>
            <a:prstGeom prst="wedgeRoundRectCallout">
              <a:avLst>
                <a:gd name="adj1" fmla="val -64180"/>
                <a:gd name="adj2" fmla="val 32847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solate the effect of a specific measure/axis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evolution of one impact indicato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133720"/>
              <a:ext cx="1904760" cy="1143000"/>
            </a:xfrm>
            <a:prstGeom prst="wedgeRoundRectCallout">
              <a:avLst>
                <a:gd name="adj1" fmla="val -67083"/>
                <a:gd name="adj2" fmla="val 1805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et out deadweight, displacement and multiplier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obtain net additional value for economic indicator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5638680"/>
              <a:ext cx="1828800" cy="685800"/>
            </a:xfrm>
            <a:prstGeom prst="wedgeRoundRectCallout">
              <a:avLst>
                <a:gd name="adj1" fmla="val 30990"/>
                <a:gd name="adj2" fmla="val -12060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measure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act in the same year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he paym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9B6-94B3-4D70-AA67-E71B551E9893}" type="slidenum">
              <a:t>8</a:t>
            </a:fld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28600" y="1523880"/>
            <a:ext cx="6172200" cy="4419720"/>
            <a:chOff x="228600" y="1523880"/>
            <a:chExt cx="6172200" cy="4419720"/>
          </a:xfrm>
        </p:grpSpPr>
        <p:grpSp>
          <p:nvGrpSpPr>
            <p:cNvPr id="119" name=""/>
            <p:cNvGrpSpPr/>
            <p:nvPr/>
          </p:nvGrpSpPr>
          <p:grpSpPr>
            <a:xfrm>
              <a:off x="228600" y="1600200"/>
              <a:ext cx="6172200" cy="4343400"/>
              <a:chOff x="228600" y="1600200"/>
              <a:chExt cx="6172200" cy="434340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4876920"/>
                <a:ext cx="2286000" cy="685800"/>
              </a:xfrm>
              <a:prstGeom prst="wedgeRoundRectCallout">
                <a:avLst>
                  <a:gd name="adj1" fmla="val 40416"/>
                  <a:gd name="adj2" fmla="val 137731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here is a need for support on how to use 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GIS for environmental indicator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600" y="1600200"/>
                <a:ext cx="2286000" cy="990720"/>
              </a:xfrm>
              <a:prstGeom prst="wedgeRoundRectCallout">
                <a:avLst>
                  <a:gd name="adj1" fmla="val 80555"/>
                  <a:gd name="adj2" fmla="val -512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Regression analysi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is used for 3 economic impact indicators and gives advantage to measure net effect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3124080"/>
                <a:ext cx="2286000" cy="838440"/>
              </a:xfrm>
              <a:prstGeom prst="wedgeRoundRectCallout">
                <a:avLst>
                  <a:gd name="adj1" fmla="val -95416"/>
                  <a:gd name="adj2" fmla="val 2537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“</a:t>
                </a: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hift and share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” analysis is used for the measurement of the 3 economic impact indicators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" y="5105520"/>
                <a:ext cx="2286000" cy="838080"/>
              </a:xfrm>
              <a:prstGeom prst="wedgeRoundRectCallout">
                <a:avLst>
                  <a:gd name="adj1" fmla="val 14791"/>
                  <a:gd name="adj2" fmla="val -182574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GIS analysi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at very low scale of all indicators contributing to biodiversity could provide very useful additional information to impact indicator 4 .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114800" y="1523880"/>
              <a:ext cx="2286000" cy="838440"/>
            </a:xfrm>
            <a:prstGeom prst="wedgeRoundRectCallout">
              <a:avLst>
                <a:gd name="adj1" fmla="val -48125"/>
                <a:gd name="adj2" fmla="val 11287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ross-checking against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ounterfactual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ituation: how to build up comparable control group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388-F499-464E-A164-4885290A11AD}" type="slidenum">
              <a:t>9</a:t>
            </a:fld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4:50Z</dcterms:modified>
  <cp:revision>188</cp:revision>
  <dc:subject/>
  <dc:title>Needs Assessment 2009</dc:title>
</cp:coreProperties>
</file>